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67BE-A864-4FF5-AF99-8A1573AB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17D1-7B11-4741-BDD9-C733B4D1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0017-13EE-4F36-A4D5-841965E9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8B9-CB6B-4BF0-91A4-A3D95A88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18D0-D11C-4054-8734-FBD1D8FE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5C22-78DE-4722-80EB-699FAAD7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B6BD-547D-4179-8E66-FB8D8778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710B-EB20-4766-840D-D2D81B95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1F20-156E-4251-94BE-1017E065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3A0-46C3-4B8A-9231-72525EE3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E617-3101-4078-AF9C-F6210FDB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4626-5270-4C16-9802-C2D637A0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3542-7EA5-4A93-8C31-7C6F1F44A9BB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21:41:48Z</dcterms:created>
  <dc:creator>Oliver Mochmann</dc:creator>
  <dc:description/>
  <dc:language>en-US</dc:language>
  <cp:lastModifiedBy>Oliver Mochmann</cp:lastModifiedBy>
  <dcterms:modified xsi:type="dcterms:W3CDTF">2007-03-02T21:46:49Z</dcterms:modified>
  <cp:revision>1</cp:revision>
  <dc:subject/>
  <dc:title>Folie 1</dc:title>
</cp:coreProperties>
</file>